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A5E-A647-4643-9FD0-3F513019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1DF-6700-467F-A8AB-A88DFD49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89A-E276-48A1-BB76-2FBB02B9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6C9-254F-4560-B7FE-5A836F4E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E0F-9679-489E-92D9-2E435D93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BB6-22BE-4327-94A5-048BD15F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B86-FAB0-43EF-881B-55EA62B5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2AD-313A-4F6A-B123-E388425E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910-B310-4B67-850D-56BE2716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14C-D806-4BBA-8D92-C7D9935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6CA-00AF-40B8-B05A-B24D0FAC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D38-CA71-4969-BAAD-8271E3F1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5E9D-0925-4892-B88F-187BD6309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news_fig3.pdf"/>
          <p:cNvPicPr/>
          <p:nvPr/>
        </p:nvPicPr>
        <p:blipFill>
          <a:blip r:embed="rId1"/>
          <a:stretch/>
        </p:blipFill>
        <p:spPr>
          <a:xfrm>
            <a:off x="-152280" y="-30492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fggewind"/>
          <p:cNvPicPr/>
          <p:nvPr/>
        </p:nvPicPr>
        <p:blipFill>
          <a:blip r:embed="rId2"/>
          <a:stretch/>
        </p:blipFill>
        <p:spPr>
          <a:xfrm>
            <a:off x="8134200" y="2577960"/>
            <a:ext cx="457200" cy="698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12m"/>
          <p:cNvPicPr/>
          <p:nvPr/>
        </p:nvPicPr>
        <p:blipFill>
          <a:blip r:embed="rId3"/>
          <a:stretch/>
        </p:blipFill>
        <p:spPr>
          <a:xfrm>
            <a:off x="8012160" y="4624560"/>
            <a:ext cx="722160" cy="585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ponedlloydpantanal"/>
          <p:cNvPicPr/>
          <p:nvPr/>
        </p:nvPicPr>
        <p:blipFill>
          <a:blip r:embed="rId4"/>
          <a:stretch/>
        </p:blipFill>
        <p:spPr>
          <a:xfrm>
            <a:off x="4533840" y="54100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6:05:29Z</dcterms:created>
  <dc:creator>CDC NOAA</dc:creator>
  <dc:description/>
  <dc:language>en-US</dc:language>
  <cp:lastModifiedBy>Sandra Lubker</cp:lastModifiedBy>
  <dcterms:modified xsi:type="dcterms:W3CDTF">2016-07-01T20:18:28Z</dcterms:modified>
  <cp:revision>44</cp:revision>
  <dc:subject/>
  <dc:title>PowerPoint Presentation</dc:title>
</cp:coreProperties>
</file>